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83A7-44CE-4896-855D-116D85B8BC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4BE7-F534-4402-9008-6E8EB01D7512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9F4C-23A0-41DF-95C0-2C48B5B5C2D5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A364-97F1-4C59-83AB-1A062330A3C0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4D0C-FCC6-45AD-AC5E-806953782857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9BD2-89AA-4AFB-8B8A-D5F2FED1570B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D488-45A9-43FB-AD90-D8DED01CCE59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33E9-28DE-4BBA-95D5-25E4A3A5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9448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FCD3-9A34-401A-B520-0BCF1006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7470-70CF-4A51-BCE6-2618AF39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4660-690A-4421-AD00-7D2D14984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1563-EC19-4E27-8073-E641AEAD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75CE-2E42-4E12-B6BC-EE9FEB52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4AD3-023F-4A77-B8D6-7CB9D392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4990-7DE4-40CE-A890-C346087B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7209-1EFC-49BC-96F1-D870F040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10152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01E8-5783-4DEB-B0F4-780ABC71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5407-A9E1-4072-8E0D-AFFCBCB8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FDEA-2140-485F-B3F0-67416594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931A-8AB7-485C-A651-3C80D0E3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847F-2622-44C8-8DD8-6FBBCF4E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9448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EBC4-C10E-4B1D-8E2D-9EBDBD72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C87B-C358-4DDD-95D9-8D03CAB9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94480"/>
            <a:ext cx="27968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39CC-4DF7-4CCB-84B3-7EF0420A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E0A4-725D-44FD-8E5B-5A4691CD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0DB8-9E38-4EEB-A9CB-31E3A35E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954D-AF0E-40C3-9779-83127300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101520"/>
            <a:ext cx="76201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7298-0197-4DBA-8613-6BA065F6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FC2F-14A0-4009-A818-CD43EB6E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9448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49B2-1125-49A3-8C09-8C78A187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94480"/>
            <a:ext cx="8686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311D-122B-47AA-8783-217133CC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C709-EE63-416B-A128-A89520F6B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2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9B3B-BA1B-4E30-BB45-6A061C02A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67080" y="177480"/>
            <a:ext cx="4648320" cy="18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’es branché! – Lev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486040" y="3428640"/>
            <a:ext cx="34290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itre 1 –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oisir, Maigrir, Groissir, Gran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s verbes -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520" y="1905120"/>
            <a:ext cx="7772400" cy="22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verbes qui terminent avec –ir appartiennent au deuxième groupe de verb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oici la conjugai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609480" y="4052880"/>
            <a:ext cx="373392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je cho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tu cho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l/elle/on chois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809880" y="4052880"/>
            <a:ext cx="487692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nous chois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is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ous chois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iss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ls/elles chois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is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es verbes -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352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verbes comme choisir so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rand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ross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ig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Pratiquons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2147760"/>
            <a:ext cx="777240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tez par tro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ez vos grou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acun dans le groupe doit prendre un table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ur les cartes que je vous ai données, écrivez le suiv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Pratiquons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147760"/>
            <a:ext cx="777240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 – nous / gross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 – tu / maig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 – elle / chois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4 – on / gran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5 – vous / maig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6 – je / chois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Pratiquons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aintenant, je vais jouer de la mus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ndant que je joue la musique, vous devez passer la carte que vous avez à la personne à dro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and j’arrête la musique, je vais annoncer un numé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personne avec cette carte doit écrire la conjugai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groupe avec la réponse correcte, touche un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Pratiquons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ous avez compr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llons-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0152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Pratiquons! – Rond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147760"/>
            <a:ext cx="777240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 – nous / chois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 – tu / gran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 – elle / maig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4 – on / gross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5 – vous / chois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6 – je / maig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LAVIGNE,MARIE</cp:lastModifiedBy>
  <dcterms:modified xsi:type="dcterms:W3CDTF">2016-09-06T13:42:44Z</dcterms:modified>
  <cp:revision>80</cp:revision>
  <dc:subject/>
  <dc:title>Allez, viens! – Level 2</dc:title>
</cp:coreProperties>
</file>